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29BF-6A35-4B91-8269-44A588AE5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2E941-E3B8-4A5B-A5AB-C81EA566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72BF5EF-70D6-4868-BB87-B91306F9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CD1C-AB2F-406A-A32B-C5751FBF71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6E997-8CD1-498C-8C1C-D22A841D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CE73091-201A-4515-A616-7C2E9D884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1-100 м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већи број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ЦИОНАРН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ЉИ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МП који се корист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 терапијске сврх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 у овом опсегу индукциј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˃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 100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m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Ф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нкционишу ка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улсни магнетни стимулато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високим нивоом магнетне индукциј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; због изузетно високе густине ЕМ поља, може у току стимулације да изазове 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мишићну контракциј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ебна погодност примене ових апарата је код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пореног стварања калуса; остеопорозе; свих болних синдрома; пострауматских стања и спортских повреда; реуматских болесн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(и запаљенски, и дегене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AD81-EFF9-4A44-90FE-80C5FB52C1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5F7B5-7D8C-46F0-A0D6-D5BA2B7E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80A5804-AC1D-456F-AFA2-5E2D88FB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BCDED-D966-4A68-90DF-B543AE7AF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ADD7515-767B-4E68-ACAD-7356FA5FD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87EAC-0438-4447-984D-3ED41E4D7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8254E04-E216-49F8-B11F-D7F313D9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CFD2C-560A-4528-BF46-91685AC18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6C56055-DFE4-4893-8C28-C4AC27BB4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FED76-3A46-4CA1-A978-0D3ECCDF4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6545B71-3B7B-418E-B20A-2B8068568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C433D-B072-4AB8-81FE-459A2B031A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709EC-859A-4A1B-A664-38298996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D2A75EC-5ABB-46CA-8028-0454C46D4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8C415-8930-413C-83FD-02175EC2B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2BA9471-B5D1-4F75-AFD3-9FFB53DE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17536-25E5-4C6E-98AD-4DFFCFA7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8E600F2-230D-4968-B514-A5335BC42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B84B-C776-4175-AF46-03CD8F7BE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4674894-CE32-4DB8-AF22-3DE26E8F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AB0E6-8F59-4390-90ED-CE97AD448A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06F2B-8699-4992-9D04-791535B4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7A69F0E-2969-49DA-8CBE-06F73406B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2E526-64F9-4D97-9664-0E2D606FB5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BAFD5-FBE9-417D-A094-0742735F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4C289B6-A697-44C9-B91F-34CAA924E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9BCC0-15D9-4BBA-8D50-066804A79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AE371F2-5422-4C61-A6FE-88DCBE183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17B80-B8A4-4D69-B262-1FC8B2E9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896976E-06AD-43DD-A4B2-DF6CCCEB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65FFA-993D-489B-94AB-451FEE1575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DE3CE-4C4A-4AAC-8FD1-11117B24B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B57A7D8-6FB8-4346-A2EE-03CA278B1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9D6D7-9C7B-4596-8CE1-B97D94118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6EDB103-3B95-4070-AF6D-128AD34BA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757AD-2677-4564-A9D4-39A5D52F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3BAA0CD-D916-4FFE-9440-DC884AB4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CE066-25AB-4931-AE9F-AE59FF10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B16D3B1-E9AB-4F43-A66A-833A1259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E6AB7-81E5-433B-B4F3-C8B117E7E0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5C267-1FDA-49BE-ADDB-614AA3CD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E43B925-A241-443C-904F-59972499C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12EC3-3295-4E55-8210-5AC03E45D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A4F3A1E-0051-46B9-ACF9-2A8BB6A7D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E4FA1-6B8F-4AB4-A081-11217C70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14F95EF-6603-48D2-BBCD-CE6EEB0CE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2B615-D61A-4E4B-AA51-E7D8FEBD1D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65FB0-2FBE-4C48-B126-F5F8CFC7E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422F4C7-0D02-4A26-859E-326EF9A8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F4B92-5CC8-463E-9D82-E7ABA723BD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189F3-A3BD-4E93-A02B-1E6F5CE0B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583AFD7-902E-4A79-B1BA-4397E75B4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12E1A-D8B2-41C7-8CD2-46D2AA3FC9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76DAE-36A4-4E27-B952-4DCA2FDF1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C60EE1A-8824-467A-A7C0-3D2204477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AC090-ABB7-4B66-AD36-F3D1DED1B5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FCCE-7100-451E-AA51-C7CCEC2DA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79C8A89-9D4C-469F-A75D-3B8191B77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C2414-0662-4E0A-A97E-6201DAD040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E1098-EFA2-4ED9-B32F-13A06E26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0805AAE-F28F-4D6C-B647-1C87E1572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455F8-A3E2-4924-9385-D903CF266C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79174-09E1-4508-A759-983BAA3A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8EF64AB-CC07-42F8-95E0-263C449F6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13B01-B2EB-46CA-9E98-CE557019EC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D7FCF-6BE2-4ABF-A64D-6C82512C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B7B2D9D-2081-46CC-92B6-199A9A95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30E35-FB5B-4937-96A5-67BC84A194A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56335-B07F-475B-BEDF-6D334258C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E9161D4-C47D-4A77-BBB3-0A992214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9C9C9-2958-43E8-AEB9-06CEC22CB2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A963C-E967-42CF-9FE8-999246429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89091E2-15DE-40A5-8378-E3BE2F8D7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14E66-F9B0-44B6-8224-A5A0010DFB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16789-074E-419B-9C82-2BDE39089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1040219-9F4B-463A-B4E3-E118B56BD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5EAE19-6A77-431F-A1F4-6C86923122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D05CA-A6A7-46E5-A5D0-D62AF6411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8080BDD-CD66-4052-936B-2C6037299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5B59E-4B2E-4DF7-B7FF-49615E0855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37BD4-BBDA-4FAD-A7AC-1ACF528BE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71E7D03-2477-4EB2-8A9D-C7CC3776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5C681-47A1-44B8-9329-666D1D607E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42A33-30EF-45E5-8AA7-81DC7F0C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41BF12B-DBA0-4381-927C-BC3379ED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45CF0-5488-4D0A-AD39-3C22F84CF5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EBDC6-5AB8-4430-978D-BA9E5127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ECB2BFD-3A13-4323-B7C1-E9F72153F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C653C-6824-44CE-ABCC-9390A62DC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0317149-F631-453C-B995-67C3D489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22343-208B-4ECC-8C82-8B1432C5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6487057-6A45-45DB-B392-928FDAAC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B2EFE-EE3F-4061-A0B8-09FAE312A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D898434-382D-427D-8B19-D8D52EEAF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4B67A-24E7-412B-8A93-3056404A4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7E1A62A-6E0A-43F2-BC97-61CD6F3B0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932E1-A0AD-49E1-AAD0-7CF649F1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BD3B6E9-198D-487E-A89C-F41156359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A6E78-191F-41C6-BA25-435BE9D4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41883C3-47E7-405D-ABB0-FF0AE1B16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07355-8108-4434-9977-4D7AFD1B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0D3E150-A8A3-4F85-9313-95D2383A7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BB3A4-1DD4-4D79-B16C-E400A6D4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D1B0E31-2FA8-4E12-B19A-B928E43C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41622-333A-4E9C-88FC-F2B87E167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9A030DE-2A73-4D76-A871-B116260A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3AD51-2C22-4F79-BF99-C06FE5214F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E92FD-BF39-4E42-A04E-202C8D16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DFC7648-4B4C-4B94-A7CC-4B7EA19CA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34926-B5CD-4183-85A7-F1355E1D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0A0417F-2123-4284-884B-286B3785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49F4-6CE3-4AB3-877C-B225D3D0B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4CE8400-5863-4E25-8426-F46931289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F56C5-9951-499B-913F-75B923B7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0324B08-954F-4547-A9AE-D899C37B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BC7AE-C185-4C4E-8C85-1FD13E1B13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BB0A07B-C716-4936-B7ED-C607EB133C2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0BFB528D-389E-4A82-9FF1-D4F631B1770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360" y="4662360"/>
            <a:ext cx="913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760" y="2611440"/>
            <a:ext cx="913464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58436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escription of magnetotherapy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8428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gnetic induction 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mT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according to international norms: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w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10-3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5-1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 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Hz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the choice depends on indic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ngth of proced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1 Тh unit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procedure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 series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nlimi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ute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er induction, lower ⱱ, shorter dur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ronic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gger induction, higher ⱱ, longer dur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0000c"/>
                </a:solidFill>
                <a:latin typeface="Verdana"/>
              </a:rPr>
              <a:t>Indication area depending on the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484280"/>
            <a:ext cx="8140680" cy="5113080"/>
            <a:chOff x="457200" y="1484280"/>
            <a:chExt cx="8140680" cy="5113080"/>
          </a:xfrm>
        </p:grpSpPr>
        <p:sp>
          <p:nvSpPr>
            <p:cNvPr id="119" name="Rectangle 3"/>
            <p:cNvSpPr/>
            <p:nvPr/>
          </p:nvSpPr>
          <p:spPr>
            <a:xfrm>
              <a:off x="457200" y="1484280"/>
              <a:ext cx="215892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FREQUENCY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2627280" y="1484280"/>
              <a:ext cx="596124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INDIC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57200" y="18504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2627280" y="18504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ll types of inflamma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7200" y="221508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4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27280" y="221508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ronchitis; Sleep disorder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7200" y="25801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6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2627280" y="25801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Hypertens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57200" y="294660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2627280" y="294660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Migraine; Poor circul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57200" y="331308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1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627280" y="331308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Gynecological complaint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457200" y="367632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627280" y="367632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Wound healing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457200" y="4041000"/>
              <a:ext cx="215892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8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2627280" y="4041000"/>
              <a:ext cx="596124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generative rheumatism; Extra-articular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457200" y="467172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2627280" y="467172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457200" y="50382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7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27280" y="50382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layed fracture healing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57200" y="54032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6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2627280" y="540324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Myositis, tendinitis, myalgi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457200" y="57697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3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7280" y="57697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Lymphedem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457200" y="61340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64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2638440" y="6134040"/>
              <a:ext cx="5948280" cy="4633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; Degenerative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26272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457200" y="1850400"/>
              <a:ext cx="8131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457200" y="2215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457200" y="25801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57200" y="29466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457200" y="3313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57200" y="36763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57200" y="40410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57200" y="4671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57200" y="50382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457200" y="54032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457200" y="5769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457200" y="61340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45720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5978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457200" y="14842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457200" y="65005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lam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inary tract infe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heumati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mmatory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)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od flow disor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blood flow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8669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Neurological 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637000"/>
            <a:ext cx="4040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yo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genrative, extra-articular, inflammato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56000" y="1903320"/>
            <a:ext cx="46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-tissue injur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ed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pa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mplanted cardiac pace-mak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ue to interference with other electronic devices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only absolute contraindication!!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cute deterioration of vital function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 only absolute contraindication!!!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of the possibility of rapid partition of the embryonic tissue and because of changes in the blood flow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during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uvenile 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Serious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circulatory problems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which include atherosclerosis and thromb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ype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m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of the direct effect of MF on the cell growth, but also because of promotive thermal effect on proliferation of many malignant cells;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eatment of rheumatoid artriti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strong high-frequency fields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-30МH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leads 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ep tiss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ting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tivation of the enzyme collagen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affec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breakdown of cartill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treated joi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65040" y="13716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mediate application decreases time of the 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umerous ind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small number of contraindic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n-contact method (clothes, plaste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thermal (metal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TC, PTG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ne antenna for two pati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umans do not have receptors for M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ilder effect – longer trea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ious effects in pat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ck of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cedure ris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t requires careful d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can cause complications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in case of an inadequate dos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T–1 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ⱱ=50–60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airement of the organism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application of Мтh, radiation therapy is forbidden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t above the carotid sinu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 occlusive arterial disea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: nephrolythiasis and urolythiasi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ide-effects of М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: sedation, mild anxiety and disturbance of daily bioloical rhythm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-36360" y="4226040"/>
            <a:ext cx="9305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2280" y="2427120"/>
            <a:ext cx="913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 use of constant and variable magnetic field for the purposes of prevention, treatment and rehabilitatio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The use of different types of magnetic field, which by having an effect on the patient's tissue cause different therapeutic effects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important to select the type, dose and method of magnetotherapy that will successfully interfere with the magnetic biopotential of an individual and their geomagnetic fie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Djurovic, 2014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Magneti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a phenomenon which allows objects to attract or repel each oth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EFINITION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of a very focused beam of coherent monochromatic 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pontaneous and stimulated radiation (photon emmi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Characteristics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04880" y="2108160"/>
            <a:ext cx="432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her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all photons in the same phase, of the same E and the same direction of spre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Monochroma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one col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Directionalit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minimal diffra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5303880" y="3017880"/>
            <a:ext cx="3686040" cy="2741400"/>
            <a:chOff x="5303880" y="3017880"/>
            <a:chExt cx="3686040" cy="274140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5303880" y="3017880"/>
              <a:ext cx="338148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524720" y="322740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ser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7578720" y="4246560"/>
              <a:ext cx="141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mal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Basic element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13280" y="2625840"/>
            <a:ext cx="138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Imperme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pump (source of energ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Semi-permeable mirro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Active medium in the resonance bo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3643200"/>
            <a:ext cx="1571760" cy="38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B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waveleng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9280" y="2421000"/>
            <a:ext cx="4465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visible light from 400-78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invisible light fr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On the basis of the active materia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14800" y="2349360"/>
            <a:ext cx="3672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li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Flu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mi-conduc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the way of emiss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According to excitation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665600" y="24210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the use of self-dischar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Electroio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in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95280" y="134136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ith coagulative eff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&lt; 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rapeutic (biostimulati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1100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with COAGULATIV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8360" y="14130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</a:rPr>
              <a:t>&lt; 600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bsorbed in pigments (melanin and hemoglob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Accumulate 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ctivate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r –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stop bleeding and obliterate small blood vessels (eye, skin, retina), tattoo removal, removal of the nevi, veruce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To stop bleeding in the digestive system, remove polypes and neoplasms of the digestive system, respiratory and urogenital syste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rgon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Neodium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URGICAL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&gt;1100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rbed in water, instant evapo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ser scalpel”: bloodless, narrow, sterile inci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surgical treatments of the parenchymal organs,  in purulent diseases, malignant diseases and coagulation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2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(biostimulative)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од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600-1100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Lasers o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low power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cold lasers);”soft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me of them have only one, and some have more than on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of the outpu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slightly absorbed in water and pigments, thus the tissue penetration is deeper – biostimul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Helium-ne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galium-arsen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semi-conduc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echanism of action of biostimulative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exact mechanism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as not been yet completely determine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although there is very intensive research being done in this field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ll effects of the laserotherapy can be divided into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rimar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n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story of the use of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0040" y="1484280"/>
            <a:ext cx="81439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eek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province Magnesia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l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gyptians, the Chine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VIII century Glaisault 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artificial magne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e No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was the first to present artificial magnets to the medical worl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Majority of European countries 1960-198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the USA in the 80's — devices for therapeutic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Slovenia (Maribor) for the first time in physical medic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IMARY (DIRECT)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 Biochemical eff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ctiv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zyme substance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urotransmit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Relea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colloid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 Bioelectr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ormaliz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membranous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the cel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 Bioenerget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timul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ATP syn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stimulation of energetic proces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RECT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484280"/>
            <a:ext cx="8143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primary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rocirc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the cellular excahnge of materi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llular metabol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GENERAL THERAPEUTIC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described biological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edemat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od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t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i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m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“rapid” А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ber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ulates “gate control“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chanism of pain impulse transmission in the posterior horns of the spinal cord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rve conductibil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stimulates 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ogenous opioid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enkephalins and endorphi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u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yperpolar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cellular membrane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in tres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 has a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direct effec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 pain reduc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musc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rcul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lood and lymp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or eliminat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ema and ischemi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issue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genous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2. Anti-inflammatory and 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3. Antiedematous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rc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lood and lymp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rption of extravasate and elimination of metabolite; reduction of edema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unspecific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umoral defen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crease of the synthesis of complements, lysosomes and interphero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phagocyte activity of neutrophil Le and macrophag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tivation of Т and B lymphocy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4. Biomodulation (biostimulative) effect of 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xchang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ugh the cellular membran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ynthesis of DNA and R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Т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itochondrias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llag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number of collagen fibers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effect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zy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basal epithelial lay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 techniq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canning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seropuncture (over the reflexogenic z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-1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spasmolytic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algesi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300-6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ко 6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edemato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-inflammatory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recommended doses which are reduced by 30% after 3 - 5 day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utput po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 - 10 mW by acupunc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0 - 70 mW scan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radiation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W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ength of radiation directed at a certain surface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important for achieving a biological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O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density of Е)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rom 0,01 – 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inhibitory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DURATION T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- 10 min, maxim. 30 m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ourc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484280"/>
            <a:ext cx="8277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nstant 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natural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magnetopho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orseshoe mag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electro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apparatus) which is created around the conductor when electricity flows through i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ow-frequency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igh-frequenc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772400" y="4206960"/>
            <a:ext cx="124920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Final effect of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484280"/>
            <a:ext cx="82915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inal effect of therap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s significantly determined b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224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i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application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ethod of radi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of the aimed tissue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an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procedures, as well 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athological substra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eing affec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84960" y="537372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442840" y="537696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issu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0" name="AutoShape 5"/>
          <p:cNvCxnSpPr>
            <a:stCxn id="249" idx="1"/>
          </p:cNvCxnSpPr>
          <p:nvPr/>
        </p:nvCxnSpPr>
        <p:spPr>
          <a:xfrm flipH="1">
            <a:off x="4903200" y="5651280"/>
            <a:ext cx="454680" cy="1362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" name="AutoShape 6"/>
          <p:cNvCxnSpPr>
            <a:endCxn id="249" idx="1"/>
          </p:cNvCxnSpPr>
          <p:nvPr/>
        </p:nvCxnSpPr>
        <p:spPr>
          <a:xfrm flipV="1">
            <a:off x="2555640" y="5651640"/>
            <a:ext cx="2802600" cy="133560"/>
          </a:xfrm>
          <a:prstGeom prst="straightConnector1">
            <a:avLst/>
          </a:prstGeom>
          <a:ln cap="sq" w="38160">
            <a:solidFill>
              <a:srgbClr val="f0000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2" name="AutoShape 7"/>
          <p:cNvCxnSpPr>
            <a:endCxn id="249" idx="1"/>
          </p:cNvCxnSpPr>
          <p:nvPr/>
        </p:nvCxnSpPr>
        <p:spPr>
          <a:xfrm flipV="1">
            <a:off x="5130360" y="5651280"/>
            <a:ext cx="2293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Text Box 8"/>
          <p:cNvSpPr/>
          <p:nvPr/>
        </p:nvSpPr>
        <p:spPr>
          <a:xfrm>
            <a:off x="3189960" y="5423040"/>
            <a:ext cx="115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08600" y="5811840"/>
            <a:ext cx="14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685800" y="278136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HIGH-INTENSITY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LASER THERAPY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- HI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igh-intensity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utput pow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on averag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30-50 times high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mparison with conventional “cold“ therapeutic las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Optimal ratio of absorption and penet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limited depth of the tissue penetr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mechanical waves which block the pain are produced in the subcutaneous tissu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iostimulation +</a:t>
            </a:r>
            <a:r>
              <a:rPr b="1" lang="sr-Latn-R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 u="sng">
                <a:solidFill>
                  <a:srgbClr val="ff0000"/>
                </a:solidFill>
                <a:uFillTx/>
                <a:latin typeface="Verdana"/>
              </a:rPr>
              <a:t>photomechanical stimul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 u="sng">
                <a:solidFill>
                  <a:srgbClr val="000000"/>
                </a:solidFill>
                <a:uFillTx/>
                <a:latin typeface="Verdana"/>
              </a:rPr>
              <a:t>Photomechanical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ve stimulates free nerve endings and other pain receptors in the subcutaneous tissu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t blocks the pathways of pain transmission in the nervous syste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roves local microcirculation and lymph drain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ng and long-lasting 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edemato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ptimal therapeutic effect 810/98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1064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ep penetration (10-1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!) power up to 12W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out side eff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se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y wavelength of ~ 100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 of the pulse repetition 10-30 H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mediate relief from pa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eatment lasts from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herapy usually consists of 10-15 appointments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 AND SPORTS INJURIES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stortion, contusion, tendinitis, tendovaginitis, muscle rupture, entesitis and entesopathy, fresh fract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GES ON BLOOD VESSEL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rice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cus varicosum, Mb. Raunauy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KIN DISEASE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czema, acne, furunculi, herpes simplex, herpes zoster, anal fiss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YNECOLOGY AND UR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nexitis, endocervicitis, cervical erosions, mastitis, urethritis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HTHALM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ucoma, retinal ablation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ammatory diseases in remission, degenerative, extra-articular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– the area of the bone epyphises during the 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ye are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ea of the thyroid gland, gonades and other endocrine glan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(abdomen and lower bac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ce maker (ches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sis and thrombophleb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pilepsy (head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tective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lasses with a special filter (catarac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room with good and uniform lighting, without mirrors, without lacquered surfa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Do not look into the laser beam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rimary effects of the 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netic field causes vibrations of cellular membran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 thei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yperpolarization</a:t>
            </a: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d the increased activity of ionic pum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Periodic permeability of the cellular membrane without energy c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pO2 up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200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T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mproves the function of cells and t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econdary biological effects of the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sodila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(increase of circulatio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edemat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inflammator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oved tissue h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of blood viscosity (antithrombot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rheological blood character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d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endocrinal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Electromagnetic therapeutic appara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1484280"/>
            <a:ext cx="5472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therapeutic apparatus consists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trol uni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generator of electrical impulses)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enoi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wire in the shape of coil through which electricity flows) - in the form of plates, antennas, hoops, mattresses, cushions, cuffs, special chai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echnique of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c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injured part of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lexive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vegetative gang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ffects the whole body, except the h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7067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484280"/>
            <a:ext cx="605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lectric field strength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in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;                                                                                В [Т; mT]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gnetic field line densit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ce of ac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MF on surrounding objec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2440" y="79848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10:32Z</dcterms:modified>
  <cp:revision>928</cp:revision>
  <dc:subject/>
  <dc:title>PowerPoint-Präsentation</dc:title>
</cp:coreProperties>
</file>